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2EF7-4366-4B9C-BEB5-5C89D300A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B19C-3BB6-49C4-AC11-B3633B4E4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7911-AEE3-4E2A-BA46-E8BE09DD5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60EA-E454-452B-B348-5B17F2951D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E29D-5832-4D1D-B1F9-CC77BC61D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5C85-ADB9-4765-ABFC-3E26D262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6D37-6D40-4562-ADC8-1081BAA26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5FC7-75F4-42EF-9017-86D8EC812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8AC1-26BF-4C86-AC92-E7BFD2E85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A9AB-B69A-4BC9-9365-63C34BDAA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BE19-F9C0-4D43-8E16-5B097CE10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3964-BCC7-4FA2-A6DF-8C274289E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387C-1EE2-43E0-A39D-3331461018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145E-0DC0-4EC7-A3D5-07E54F9BF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Presenter Na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E12-67E7-4D87-820B-0D5995037B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needs to refine their understanding of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36E-63AF-4075-8D8F-47D1C2BF95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26360" cy="22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71228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FAD-6CCA-4973-8786-3E0AE63797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" y="1846440"/>
            <a:ext cx="8229600" cy="47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s the teacher may ask or includ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5897-66F0-4CCF-981A-9FADF5FB8B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43186" t="14563" r="3067" b="62995"/>
          <a:stretch/>
        </p:blipFill>
        <p:spPr>
          <a:xfrm>
            <a:off x="682560" y="3581280"/>
            <a:ext cx="8128080" cy="209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48640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: ‘take the test’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Student Book Module 2: Comparing Fractions  Pages 3-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2D3F-257C-44E1-A4DC-363380A723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276720" cy="411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3996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swer Key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Module 2: Comparing Fractions </a:t>
            </a:r>
            <a:br>
              <a:rPr sz="20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page 5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C2F-3D3E-48D0-8E05-1C30258556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0608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agnosing the Misconception</a:t>
            </a:r>
            <a:br>
              <a:rPr sz="4400"/>
            </a:b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Facilitator’s Guide Module 2: Comparing Fractions page 4</a:t>
            </a:r>
            <a:endParaRPr b="0" lang="en-US" sz="2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0AB-AA11-4565-A92D-BE9B832B2D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#2: Examin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A02-D680-4E81-9D5C-B10A877BFB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05FB-CEB1-4CFD-8419-E552300B48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put the math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7703-17AF-4027-A239-94678160FD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ider the following as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 ‘do the math.’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math that you se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anticipated student respon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r students have solved this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1830-D962-4CBA-9868-2D01C81CCC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7094880" y="22860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cc00"/>
                </a:solidFill>
                <a:latin typeface="Arial"/>
              </a:rPr>
              <a:t>Mind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e your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577-9AE9-4CD2-B39D-5E3754DDA1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Jigsaw – Expert Grou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r samples of student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26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three people who have the same sample # as you do – e.g., Sample #1 find three other people with Sampl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n expert group, complete the chart ‘Supporting Student Learn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660F-89B8-4A3A-BA8D-4FA4CEFF20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29600" cy="401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C8E-6A61-419B-911E-80065CF78F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712620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pporting Student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E6B2-ECC7-4360-AD99-B621E3774C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57200" y="1986120"/>
            <a:ext cx="8229600" cy="44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t means the student understand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4E1D-611C-4102-8220-81134D2485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6426360" cy="224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7937640" cy="99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37342</cp:lastModifiedBy>
  <dcterms:modified xsi:type="dcterms:W3CDTF">2012-05-31T13:26:43Z</dcterms:modified>
  <cp:revision>20</cp:revision>
  <dc:subject/>
  <dc:title>&lt;Title&gt;</dc:title>
</cp:coreProperties>
</file>